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B325D62-96AF-4CEE-8979-2E71AB6ACA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F68-85DA-4BA9-A5FB-68009B72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F9E-896F-4FE1-9AC4-32E43C0E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39C-E1B4-4ADC-BFD8-204BDD99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63A5-6D61-4303-BD95-DA155474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538-B0DE-4C8C-8E0F-CBB16DAE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0B5-1058-4C32-A4DA-7843382F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8CA-B3CB-4DB4-97D9-5F381A0E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1D1-E39D-4230-80B8-F41E6C2B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853-F130-41B8-8585-2262E168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720-9C56-401E-BC59-8AA3F7C6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A22-D896-4587-A3D0-BCF6CBD1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2D1-8A6D-4F58-92F9-0A7EB73C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F1F4-7550-4005-B851-F91FB3604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fecto dir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tiv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duc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de la pobr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000 empresas nuevas y peque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ñas desarrolladas en las provincias más po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incubadoras de modelo empresarial en provincia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á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dquisi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instalaciones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pacita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rindar microcréditos pro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Enfoque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ón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1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25440" y="990720"/>
            <a:ext cx="1846080" cy="5410080"/>
            <a:chOff x="7525440" y="990720"/>
            <a:chExt cx="184608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5540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6996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42320" y="5486400"/>
              <a:ext cx="86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619760" y="3194280"/>
              <a:ext cx="165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ndic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ón colectiva de cu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Institucional/ compor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Operacional/ destrezas, habilidades, productos y servi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  <a:ea typeface="굴림"/>
                </a:rPr>
                <a:t>¡Hu</a:t>
              </a: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mano!</a:t>
              </a: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ecto dir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mento en el empleo y la genera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n de 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Institucional/ comportamiento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ñ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46040" y="245556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46040" y="352224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38480" y="4551120"/>
            <a:ext cx="103356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03200" y="1536480"/>
            <a:ext cx="973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2-23T13:27:50Z</dcterms:modified>
  <cp:revision>6</cp:revision>
  <dc:subject/>
  <dc:title>PowerPoint Presentation</dc:title>
</cp:coreProperties>
</file>